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747-6AC7-4F32-90FD-646FBDC5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18F-BBF7-4B28-9568-37EC652E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08C-98A3-4DAF-B472-4A9DA9BB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CC27-3A8B-4563-880C-72BB6715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E61A-F44D-4D0A-8861-AB1BF8AB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FE34-7938-4801-BAB1-7F04C9A1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0B63-796D-4ADB-B06F-19829B72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92E-F657-45A8-A067-0850034A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66BB-1D1B-4F93-859C-75DAC98F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FF4-9E86-47E0-972C-1D461159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334-5190-4E32-B325-7CBEAC1B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B6B-AA05-4E6D-9394-00DAEB70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E8B5-8BED-46BC-92A8-40C1C4782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10/01/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960" y="960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b050"/>
                </a:solidFill>
                <a:latin typeface="Arial"/>
              </a:rPr>
              <a:t>L.O: to recall the use –AR verbs in the present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b0f0"/>
                </a:solidFill>
                <a:latin typeface="Arial"/>
              </a:rPr>
              <a:t>TOMAR </a:t>
            </a:r>
            <a:r>
              <a:rPr b="1" i="1" lang="es-ES_tradnl" sz="3200" spc="-1" strike="noStrike" u="sng">
                <a:solidFill>
                  <a:srgbClr val="00b0f0"/>
                </a:solidFill>
                <a:uFillTx/>
                <a:latin typeface="Arial"/>
              </a:rPr>
              <a:t>QUIZ: REPASO 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jugate the following –AR verb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3581280"/>
          <a:ext cx="8381880" cy="2514600"/>
        </p:xfrm>
        <a:graphic>
          <a:graphicData uri="http://schemas.openxmlformats.org/drawingml/2006/table">
            <a:tbl>
              <a:tblPr/>
              <a:tblGrid>
                <a:gridCol w="1819080"/>
                <a:gridCol w="1976400"/>
                <a:gridCol w="2292480"/>
                <a:gridCol w="229392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Usar </a:t>
                      </a:r>
                      <a:r>
                        <a:rPr b="0" i="1" lang="en-US" sz="1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(to u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levar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(to we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Estudiar </a:t>
                      </a:r>
                      <a:r>
                        <a:rPr b="0" i="1" lang="en-US" sz="1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(to stud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ocabul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Verb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28600" y="1308240"/>
            <a:ext cx="1905120" cy="1587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14600" y="1436760"/>
            <a:ext cx="1676520" cy="1306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4572000" y="11430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4"/>
          <a:stretch/>
        </p:blipFill>
        <p:spPr>
          <a:xfrm>
            <a:off x="6934320" y="1295280"/>
            <a:ext cx="1728720" cy="180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5"/>
          <a:stretch/>
        </p:blipFill>
        <p:spPr>
          <a:xfrm>
            <a:off x="228600" y="4114800"/>
            <a:ext cx="1523880" cy="147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6"/>
          <a:stretch/>
        </p:blipFill>
        <p:spPr>
          <a:xfrm>
            <a:off x="1523880" y="4632480"/>
            <a:ext cx="1447920" cy="1052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7"/>
          <a:stretch/>
        </p:blipFill>
        <p:spPr>
          <a:xfrm>
            <a:off x="3352680" y="4191120"/>
            <a:ext cx="1524240" cy="1409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8"/>
          <a:stretch/>
        </p:blipFill>
        <p:spPr>
          <a:xfrm>
            <a:off x="4964040" y="4495680"/>
            <a:ext cx="1055880" cy="1228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9"/>
          <a:stretch/>
        </p:blipFill>
        <p:spPr>
          <a:xfrm>
            <a:off x="6553080" y="4114800"/>
            <a:ext cx="2200320" cy="1708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3"/>
          <p:cNvSpPr/>
          <p:nvPr/>
        </p:nvSpPr>
        <p:spPr>
          <a:xfrm>
            <a:off x="383040" y="289548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stud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2453400" y="289548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scu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4852800" y="28954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a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7041600" y="30481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Ca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659520" y="5638680"/>
            <a:ext cx="18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c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la guitar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el pi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4046400" y="5638680"/>
            <a:ext cx="142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m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n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fo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6718680" y="5715000"/>
            <a:ext cx="21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ac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buenas n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(malas n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s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Mas verb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v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t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en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c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705320" y="137160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wear, to c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95880" y="182880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594800" y="228600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780920" y="281952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pre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910880" y="32767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974240" y="373392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look for, to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1823760" y="419112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651320" y="472428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1676160" y="518148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1724040" y="556272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wish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5486400" y="9144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1692000" y="609588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 ar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622560" y="13716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y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7196400" y="182880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y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6973560" y="22860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y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7020360" y="2819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7177320" y="32767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6687720" y="3733920"/>
            <a:ext cx="5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6856920" y="419112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he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6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PRACTICA DE LOS VERBOS -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7:41:10Z</dcterms:created>
  <dc:creator>Helen Zumaeta</dc:creator>
  <dc:description/>
  <dc:language>en-US</dc:language>
  <cp:lastModifiedBy>Helen Zumaeta</cp:lastModifiedBy>
  <dcterms:modified xsi:type="dcterms:W3CDTF">2015-10-01T15:36:43Z</dcterms:modified>
  <cp:revision>26</cp:revision>
  <dc:subject/>
  <dc:title>Me llamo ___________ Clase 6 NH/IL La fecha es el 10 de enero del 2011</dc:title>
</cp:coreProperties>
</file>